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CE617-DC76-47B7-A358-4BA26A12F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4490-C6D5-4C16-A23E-EEF09729A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E8A76-D4A5-4B6F-8E38-2A0E6D3B9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53DB-0430-4BF8-8758-4E0521186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BEEB27-68E2-4EF2-9DD8-E49279FB917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AA6F71-FC06-486C-9A47-FF361C80E3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A32C6-4D05-40AD-880B-23E80829D8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EB5DC9-F93D-4A74-BAD9-7F51B765D0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91920-EE28-406B-9B33-634329A598E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859BE-0F4A-41BF-836F-F8065DFF6B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6215D-4741-4CB8-8C1D-001029203B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9FB53-C2B8-4532-823C-242CC3537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A1050-4CA4-4424-B49C-674C12E7CB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5895A-509D-4450-B5CC-F82F2CDDD1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965773-DFCE-4A4F-936D-F8DE557AC2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432A9-7C5C-48A4-B4D1-20A1EBA18B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6DBFBB-F817-4DBD-933F-9F349C4CFE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6C16-F149-4586-839E-A990ABFEE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C378-F5DB-4004-B1B8-AC95D1551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0DE1-4B12-4B16-81EF-4F4B604C9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D801-B29A-43DA-A22C-4CF2AB530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A704-26D3-4FED-9A71-C165CC76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98AB-8B22-4D87-B11C-549A1678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8A07-86F6-4365-8AA6-CF3CA64AA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445F-CC06-408F-B8AB-D3F097940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07CB-3B25-4FBA-B396-EAC5E4AD17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Canis_aureus_revivim2.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geria</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Nick and Kad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work cited.</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http://www.yemen-explorers.com/algeriatours.htm</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heism.about.com/library/FAQs/islam/countries/bl_AlgeriaIndex.htm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google.com</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and</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tion – in Northern Africa, borders the Mediterranean Sea, between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occo and Tunisia.</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dforms - Mostly high plateau and the Sahara Desert, including three large sand sea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is a hilly and narrow coastal plain along the Mediterranean Sea with a few minor (small) rivers. </a:t>
            </a:r>
            <a:br>
              <a:rPr sz="1800"/>
            </a:b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tural Resource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ined Produc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roleum Gas</a:t>
            </a:r>
            <a:endParaRPr b="0" lang="en-US" sz="2800" spc="-1" strike="noStrike">
              <a:solidFill>
                <a:srgbClr val="ffffff"/>
              </a:solidFill>
              <a:latin typeface="Tahoma"/>
            </a:endParaRPr>
          </a:p>
        </p:txBody>
      </p:sp>
      <p:pic>
        <p:nvPicPr>
          <p:cNvPr id="90" name="" descr=""/>
          <p:cNvPicPr/>
          <p:nvPr/>
        </p:nvPicPr>
        <p:blipFill>
          <a:blip r:embed="rId2"/>
          <a:stretch/>
        </p:blipFill>
        <p:spPr>
          <a:xfrm>
            <a:off x="5105520" y="1828800"/>
            <a:ext cx="3333600" cy="45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 and Vegetation</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rthern Algeria is in the temperate zone and enjoys a mild, Mediterranean climate.</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astal region has a pleasant climate, with winter temperatures averaging from 50° to 54°F and average summer temperatures ranging from 75° to 79°F.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rainfall is low at about 15 to 27 inches per year.</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arther inland, the climate changes; winters average 39° to 43°F, with considerable frost and occasional snow on the massifs; summers average 79° to 82°F.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me of the animals native to Algeria are lions, sheep, boar, cheetah, mongoose, hyena, and many others.</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3" name="" descr="">
            <a:hlinkClick r:id="rId2"/>
          </p:cNvPr>
          <p:cNvPicPr/>
          <p:nvPr/>
        </p:nvPicPr>
        <p:blipFill>
          <a:blip r:embed="rId3"/>
          <a:stretch/>
        </p:blipFill>
        <p:spPr>
          <a:xfrm>
            <a:off x="6400800" y="4267080"/>
            <a:ext cx="2381400" cy="1791000"/>
          </a:xfrm>
          <a:prstGeom prst="rect">
            <a:avLst/>
          </a:prstGeom>
          <a:ln w="0">
            <a:noFill/>
          </a:ln>
        </p:spPr>
      </p:pic>
      <p:pic>
        <p:nvPicPr>
          <p:cNvPr id="94" name="" descr=""/>
          <p:cNvPicPr/>
          <p:nvPr/>
        </p:nvPicPr>
        <p:blipFill>
          <a:blip r:embed="rId4"/>
          <a:stretch/>
        </p:blipFill>
        <p:spPr>
          <a:xfrm>
            <a:off x="304920" y="4267080"/>
            <a:ext cx="2381040" cy="1409760"/>
          </a:xfrm>
          <a:prstGeom prst="rect">
            <a:avLst/>
          </a:prstGeom>
          <a:ln w="0">
            <a:noFill/>
          </a:ln>
        </p:spPr>
      </p:pic>
      <p:pic>
        <p:nvPicPr>
          <p:cNvPr id="95" name="" descr=""/>
          <p:cNvPicPr/>
          <p:nvPr/>
        </p:nvPicPr>
        <p:blipFill>
          <a:blip r:embed="rId5"/>
          <a:stretch/>
        </p:blipFill>
        <p:spPr>
          <a:xfrm>
            <a:off x="3352680" y="5029200"/>
            <a:ext cx="2381400" cy="159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lag of Algeria"/>
          <p:cNvPicPr/>
          <p:nvPr/>
        </p:nvPicPr>
        <p:blipFill>
          <a:blip r:embed="rId2"/>
          <a:stretch/>
        </p:blipFill>
        <p:spPr>
          <a:xfrm>
            <a:off x="0" y="0"/>
            <a:ext cx="9144000" cy="6858000"/>
          </a:xfrm>
          <a:prstGeom prst="rect">
            <a:avLst/>
          </a:prstGeom>
          <a:ln w="0">
            <a:noFill/>
          </a:ln>
        </p:spPr>
      </p:pic>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vernment</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566640" indent="-5666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litical Leaders</a:t>
            </a:r>
            <a:endParaRPr b="0" lang="en-US" sz="1400" spc="-1" strike="noStrike">
              <a:solidFill>
                <a:srgbClr val="ffffff"/>
              </a:solidFill>
              <a:latin typeface="Tahoma"/>
            </a:endParaRPr>
          </a:p>
          <a:p>
            <a:pPr lvl="1" marL="921240" indent="-496080">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delaziz Bouteflika is the current president of Algeria. </a:t>
            </a:r>
            <a:endParaRPr b="0" lang="en-US" sz="1200" spc="-1" strike="noStrike">
              <a:solidFill>
                <a:srgbClr val="ffffff"/>
              </a:solidFill>
              <a:latin typeface="Tahoma"/>
            </a:endParaRPr>
          </a:p>
          <a:p>
            <a:pPr marL="566640" indent="-5666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ype of Government</a:t>
            </a:r>
            <a:endParaRPr b="0" lang="en-US" sz="1400" spc="-1" strike="noStrike">
              <a:solidFill>
                <a:srgbClr val="ffffff"/>
              </a:solidFill>
              <a:latin typeface="Tahoma"/>
            </a:endParaRPr>
          </a:p>
          <a:p>
            <a:pPr lvl="1" marL="921240" indent="-496080">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 - a representative democracy in which the people's elected deputies (representatives), not the people themselves, vote on legislation.</a:t>
            </a:r>
            <a:br>
              <a:rPr sz="1400"/>
            </a:br>
            <a:r>
              <a:rPr b="0" lang="en-US" sz="1400" spc="-1" strike="noStrike">
                <a:solidFill>
                  <a:srgbClr val="ffffff"/>
                </a:solidFill>
                <a:latin typeface="Tahoma"/>
              </a:rPr>
              <a:t> </a:t>
            </a:r>
            <a:endParaRPr b="0" lang="en-US" sz="1400" spc="-1" strike="noStrike">
              <a:solidFill>
                <a:srgbClr val="ffffff"/>
              </a:solidFill>
              <a:latin typeface="Tahoma"/>
            </a:endParaRPr>
          </a:p>
          <a:p>
            <a:pPr marL="566640" indent="-566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fe expectancy </a:t>
            </a:r>
            <a:endParaRPr b="0" lang="en-US" sz="1600" spc="-1" strike="noStrike">
              <a:solidFill>
                <a:srgbClr val="ffffff"/>
              </a:solidFill>
              <a:latin typeface="Tahoma"/>
            </a:endParaRPr>
          </a:p>
          <a:p>
            <a:pPr lvl="1" marL="921240" indent="-496080">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8 years of age. </a:t>
            </a:r>
            <a:endParaRPr b="0" lang="en-US" sz="1400" spc="-1" strike="noStrike">
              <a:solidFill>
                <a:srgbClr val="ffffff"/>
              </a:solidFill>
              <a:latin typeface="Tahoma"/>
            </a:endParaRPr>
          </a:p>
          <a:p>
            <a:pPr marL="566640" indent="-566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pulation</a:t>
            </a:r>
            <a:endParaRPr b="0" lang="en-US" sz="1600" spc="-1" strike="noStrike">
              <a:solidFill>
                <a:srgbClr val="ffffff"/>
              </a:solidFill>
              <a:latin typeface="Tahoma"/>
            </a:endParaRPr>
          </a:p>
          <a:p>
            <a:pPr lvl="1" marL="921240" indent="-496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3,769,668</a:t>
            </a:r>
            <a:r>
              <a:rPr b="0" lang="en-US" sz="2000" spc="-1" strike="noStrike">
                <a:solidFill>
                  <a:srgbClr val="ffffff"/>
                </a:solidFill>
                <a:latin typeface="Tahoma"/>
              </a:rPr>
              <a:t> </a:t>
            </a:r>
            <a:endParaRPr b="0" lang="en-US" sz="20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and Current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eria had signed several agreements with tobacco giant like Phillip Morris and Greek tobacco companies to build plants to manufacture cigarettes and grow the crop itself in Algeria for the Algerian market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first such pirate establishes himself on the coast of Algeria in 1512. Two others are firmly based in Libya by 1551. Tunisia is briefly taken in 1534 by the most famous corsair of them all, Khair ed-Din (known to the Europeans as Barbarossa). Recovered for Spain in 1535, Tunisia is finally brought under Ottoman control in 1574. </a:t>
            </a:r>
            <a:br>
              <a:rPr sz="1400"/>
            </a:br>
            <a:r>
              <a:rPr b="0" lang="en-US" sz="1400" spc="-1" strike="noStrike">
                <a:solidFill>
                  <a:srgbClr val="ffffff"/>
                </a:solidFill>
                <a:latin typeface="Tahoma"/>
              </a:rPr>
              <a:t>Piracy remains the chief purpose and main source of income of all these Turkish settlements along the Barbary coast. And the depredations of piracy, after three centuries, at last prompt French Intervention in Algeria. This, at any rate, is stated by the French at the time to be the cause of their intervention. The reality is somewhat less glorious.</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History continued</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early leaders of Algerian nationalism see a solution in integration rather than separation. Muslim Algerians, they argue, should enjoy equal status with the settlers as French citizens. Ferhat Abbas (a future president of an independent Algerian parliament) writes in 1931: 'Algeria is French soil and we are French Muslim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conomy</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ype of Industry</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rpet mills, cement factories, chemical plants, automobile assembly plants, food-processing installations, oil refineries, soap factories, and textile plants. </a:t>
            </a:r>
            <a:endParaRPr b="0" lang="en-US" sz="16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jor Exports</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modities: capital goods, food and beverages, consumer goods.</a:t>
            </a:r>
            <a:endParaRPr b="0" lang="en-US" sz="16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teracy Rate</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ge 15 and over can read and write </a:t>
            </a:r>
            <a:br>
              <a:rPr sz="1600"/>
            </a:br>
            <a:r>
              <a:rPr b="0" lang="en-US" sz="1600" spc="-1" strike="noStrike">
                <a:solidFill>
                  <a:srgbClr val="ffffff"/>
                </a:solidFill>
                <a:latin typeface="Tahoma"/>
              </a:rPr>
              <a:t>total population: 69.9% </a:t>
            </a:r>
            <a:br>
              <a:rPr sz="1600"/>
            </a:br>
            <a:r>
              <a:rPr b="0" lang="en-US" sz="1600" spc="-1" strike="noStrike">
                <a:solidFill>
                  <a:srgbClr val="ffffff"/>
                </a:solidFill>
                <a:latin typeface="Tahoma"/>
              </a:rPr>
              <a:t>male: 79.6% </a:t>
            </a:r>
            <a:br>
              <a:rPr sz="1600"/>
            </a:br>
            <a:r>
              <a:rPr b="0" lang="en-US" sz="1600" spc="-1" strike="noStrike">
                <a:solidFill>
                  <a:srgbClr val="ffffff"/>
                </a:solidFill>
                <a:latin typeface="Tahoma"/>
              </a:rPr>
              <a:t>female: 60.1% (2002 est.)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lture</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itional Clothing</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arakou is a typical traditional dress. The Blousa is a full length, strait cut dress made of lace. </a:t>
            </a:r>
            <a:endParaRPr b="0" lang="en-US" sz="16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itional Foods</a:t>
            </a:r>
            <a:endParaRPr b="0" lang="en-US" sz="1800" spc="-1" strike="noStrike">
              <a:solidFill>
                <a:srgbClr val="ffffff"/>
              </a:solidFill>
              <a:latin typeface="Tahoma"/>
            </a:endParaRPr>
          </a:p>
          <a:p>
            <a:pPr lvl="2" marL="994320" indent="-198720">
              <a:spcBef>
                <a:spcPts val="3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000 B.C., marked the beginning of wheat cultivation, </a:t>
            </a:r>
            <a:r>
              <a:rPr b="0" i="1" lang="en-US" sz="1200" spc="-1" strike="noStrike">
                <a:solidFill>
                  <a:srgbClr val="ffffff"/>
                </a:solidFill>
                <a:latin typeface="Tahoma"/>
              </a:rPr>
              <a:t>smen</a:t>
            </a:r>
            <a:r>
              <a:rPr b="0" lang="en-US" sz="1200" spc="-1" strike="noStrike">
                <a:solidFill>
                  <a:srgbClr val="ffffff"/>
                </a:solidFill>
                <a:latin typeface="Tahoma"/>
              </a:rPr>
              <a:t> (aged, cooked butter), and fruit consumption, such as dates. The introduction of semolina wheat by the Carthaginians </a:t>
            </a:r>
            <a:endParaRPr b="0" lang="en-US" sz="1200" spc="-1" strike="noStrike">
              <a:solidFill>
                <a:srgbClr val="ffffff"/>
              </a:solidFill>
              <a:latin typeface="Tahoma"/>
            </a:endParaRPr>
          </a:p>
          <a:p>
            <a:pPr lvl="3" marL="1392120" indent="-198720">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Algerian cuisine, a colorful combination of Berber, Turkish, French, and Arab tastes, can be either extremely mild or packed with flavorful seasonings. Ginger, saffron, onion, garlic, coriander, cumin, cinnamon, parsley, and mint are essential in any Algerian pantry.</a:t>
            </a:r>
            <a:endParaRPr b="0" lang="en-US" sz="1200" spc="-1" strike="noStrike">
              <a:solidFill>
                <a:srgbClr val="ffffff"/>
              </a:solidFill>
              <a:latin typeface="Tahoma"/>
            </a:endParaRPr>
          </a:p>
          <a:p>
            <a:pPr lvl="3" marL="1392120" indent="-198720">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Couscous</a:t>
            </a:r>
            <a:r>
              <a:rPr b="0" lang="en-US" sz="1200" spc="-1" strike="noStrike">
                <a:solidFill>
                  <a:srgbClr val="ffffff"/>
                </a:solidFill>
                <a:latin typeface="Tahoma"/>
              </a:rPr>
              <a:t>, the national dish, is often mistaken as a grain itself, rather than pasta. The pasta dough is a mixture of water and coarse, grainy semolina wheat particles. The dough is then crumbled through a sieve to create tiny pellets. Algerians prefer lamb, chicken, or fish to be placed on a bed of warm couscous, along with cooked vegetables such as carrots, chickpeas, and tomatoes, and spicy stews. Couscous can also be used in desserts by adding a variety of ingredients, such as cinnamon, nutmeg, dates, and figs. </a:t>
            </a:r>
            <a:endParaRPr b="0" lang="en-US" sz="1200" spc="-1" strike="noStrike">
              <a:solidFill>
                <a:srgbClr val="ffffff"/>
              </a:solidFill>
              <a:latin typeface="Tahoma"/>
            </a:endParaRPr>
          </a:p>
          <a:p>
            <a:pPr lvl="1" marL="64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Spoken</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rabic, Berber and French</a:t>
            </a:r>
            <a:endParaRPr b="0" lang="en-US" sz="16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gion Practiced</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slam and Orthodox though Islam is preferred more.</a:t>
            </a:r>
            <a:endParaRPr b="0" lang="en-US" sz="1600" spc="-1" strike="noStrike">
              <a:solidFill>
                <a:srgbClr val="ffffff"/>
              </a:solidFill>
              <a:latin typeface="Tahoma"/>
            </a:endParaRPr>
          </a:p>
        </p:txBody>
      </p:sp>
      <p:pic>
        <p:nvPicPr>
          <p:cNvPr id="107" name="" descr=""/>
          <p:cNvPicPr/>
          <p:nvPr/>
        </p:nvPicPr>
        <p:blipFill>
          <a:blip r:embed="rId2"/>
          <a:stretch/>
        </p:blipFill>
        <p:spPr>
          <a:xfrm>
            <a:off x="6172200" y="5029200"/>
            <a:ext cx="236232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06:47Z</dcterms:created>
  <dc:creator>nicholasesanders</dc:creator>
  <dc:description/>
  <dc:language>en-US</dc:language>
  <cp:lastModifiedBy>McFaddeR</cp:lastModifiedBy>
  <dcterms:modified xsi:type="dcterms:W3CDTF">2009-03-04T20:39:08Z</dcterms:modified>
  <cp:revision>15</cp:revision>
  <dc:subject/>
  <dc:title>Slide 1</dc:title>
</cp:coreProperties>
</file>